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F5B-F20E-405A-865A-5CFEEEBA0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C3B8-023A-4B6D-9FEA-B13787158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836D-6C99-498C-B170-7F4BB20D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D1DA-D733-471E-9D90-7CB957E5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A19D-D38F-4388-BCE8-426AA9CF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D642E-67E8-4348-AA39-2052E99ED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9380-BCB6-4C33-9FB4-D410BDB9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5F2-CA05-48C4-B74E-B90AE22D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F66-0C6B-45D5-9F39-1506BD5A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7885-B724-4651-B991-ECE2C7FB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D8E4-869E-4819-A910-F3452B4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9AF-A919-419A-8506-62440AB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21EA-8BE2-408A-ADAE-B842C08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8F4B-545B-4739-9E97-E46F39E9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5405-049E-46C9-BA6A-9ED7A61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368-3ED7-42E6-A159-F05DFB2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7F80-9DE8-482A-87FD-316E5DE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5E3-2065-44B0-AD6D-93DC21B6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343C-5AEA-431D-8F33-8336F8FB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F05DF-B27E-4CCD-8C7E-391ECEA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28AD-C7FC-43E2-8537-E046B33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EDFB-E780-43DA-8A55-A7B80E7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68596-7AAD-43DA-A106-1AC50218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3BD4-897C-4B11-9EBB-8767F0F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0878-D017-4E19-A68F-289C6650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11C6-31FA-49CD-B3EB-9C050C23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7CA-95F6-42D4-B191-8A7BCD5502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44004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f839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preneurship- BIS 3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872B-1541-45F3-8ADE-3128CD573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5640" y="1828800"/>
            <a:ext cx="6705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EL MANAGEMEN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XTENDED MARKETING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MELIOR logo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99360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6BAA-9509-4D89-A0C0-384D8DA1B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2795760" y="5072040"/>
            <a:ext cx="6348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http://www.fotosearch.com/bthumb/THK/THK264/d0003207.jpg"/>
          <p:cNvPicPr/>
          <p:nvPr/>
        </p:nvPicPr>
        <p:blipFill>
          <a:blip r:embed="rId2"/>
          <a:stretch/>
        </p:blipFill>
        <p:spPr>
          <a:xfrm>
            <a:off x="7358040" y="4214880"/>
            <a:ext cx="17146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52352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vidence must go in line with the positioning of the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uxury hotel MUST appear luxuri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dget hotel however does not need to look che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vidence must make the customer perceive the hotel offers value and comfort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Three C of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Customers’ Comfort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ompetition is a dominant factor – Hotel cannot price itself out of the market / The prices must not differ too much from other hotels of simila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www.fotosearch.com/bthumb/CSP/CSP355/k3555900.jpg"/>
          <p:cNvPicPr/>
          <p:nvPr/>
        </p:nvPicPr>
        <p:blipFill>
          <a:blip r:embed="rId1"/>
          <a:stretch/>
        </p:blipFill>
        <p:spPr>
          <a:xfrm>
            <a:off x="7524720" y="5467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operating costs of the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lassify into fixed costs and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-  fixed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do not change in relation of volume /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  examples: rent, salaries, depreciation,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-  variable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increase in relation to volume / level of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440" indent="-442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- examples: consumable stores, water and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www.fotosearch.com/bthumb/CSP/CSP355/k3555900.jpg"/>
          <p:cNvPicPr/>
          <p:nvPr/>
        </p:nvPicPr>
        <p:blipFill>
          <a:blip r:embed="rId1"/>
          <a:stretch/>
        </p:blipFill>
        <p:spPr>
          <a:xfrm>
            <a:off x="7524720" y="5467320"/>
            <a:ext cx="1619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targeted profits and occupa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alculate the targeted pricing using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Fixed Cost + Targeted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ontribution per room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Where Contribution = Selling Price less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– Pri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icing based 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Determine the targeted profits and occupa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Arial Narro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Calculate the targeted pricing using the formu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Arial"/>
              </a:rPr>
              <a:t>Fixed Cost + Targeted 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ontribution per room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Where Contribution = Selling Price less Variabl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 : Cost Plus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 hotelier runs a 50 room budget hot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The average room rate is $25 per room n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Budgeted monthly costs are as follow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Depreciation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2,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ixed utilities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alaries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7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Repairs and maintenance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tationery and Printing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1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dvertising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$3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Consumable materials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nd variable utilities $5 per room nigh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 Cost Plus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breakeven in room nights and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hotelier expects at least 60% occupancy rate, what should 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Pric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 or Mi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occupancy rate at each pric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collected inform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ically to determine which level 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 at the most prof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ther Pric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age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rates charged in the previous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r inflation and payrol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d Pi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rates according to what other hotel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are asking for comparab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The Extended Marketing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Service/extended marketing mix"/>
          <p:cNvPicPr/>
          <p:nvPr/>
        </p:nvPicPr>
        <p:blipFill>
          <a:blip r:embed="rId1"/>
          <a:stretch/>
        </p:blipFill>
        <p:spPr>
          <a:xfrm>
            <a:off x="1523880" y="1219320"/>
            <a:ext cx="60962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eople refers to your customer service staff and the attitude and appearance that is reflective of your organization, or perceived by your custom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 cannot have strong corporate image without good people; good people that listen to your customers, and good people that communicate those comments, concerns, and needs to your entire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r people can determine wh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your customer will retu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develop PEOPLE into a competitive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cruitment and sel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 choose the right people for the right job (with good attitu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product knowledge, customer service skills and th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prepare employees to take on greater roles and responsibilities in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ompen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do not underpay in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salaries and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o develop PEOPLE into a competitive advant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ea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treat employees well with dignity and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ork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 provide a safe and comfortable working environment, foster teamwork and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mpower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llow employees the power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decisions that enables them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 customers better, make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untable for thei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ttp://www.fotosearch.com/bthumb/IMZ/IMZ003/szo0441.jpg"/>
          <p:cNvPicPr/>
          <p:nvPr/>
        </p:nvPicPr>
        <p:blipFill>
          <a:blip r:embed="rId1"/>
          <a:stretch/>
        </p:blipFill>
        <p:spPr>
          <a:xfrm>
            <a:off x="6858000" y="4714920"/>
            <a:ext cx="2286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, mechanism and flow of activities by which services are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the 'Procedure' how the product / service will reach the end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focus on simplifying the process for your prospective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es can be represented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alue Chai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www.fotosearch.com/bthumb/ILW/ILW506/mardep0148s.jpg"/>
          <p:cNvPicPr/>
          <p:nvPr/>
        </p:nvPicPr>
        <p:blipFill>
          <a:blip r:embed="rId1"/>
          <a:stretch/>
        </p:blipFill>
        <p:spPr>
          <a:xfrm>
            <a:off x="5867280" y="502920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0070"/>
                </a:solidFill>
                <a:latin typeface="Arial"/>
              </a:rPr>
              <a:t>Marketing Mix -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523520"/>
            <a:ext cx="8382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PROCESS a competitive advan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pl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ke processes simple for customers to understand and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ake processes convenient for customers from their perspective (not the hotel or 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waiting ti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do not let guests wait too long for the servic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www.fotosearch.com/bthumb/ILW/ILW506/mardep0148s.jpg"/>
          <p:cNvPicPr/>
          <p:nvPr/>
        </p:nvPicPr>
        <p:blipFill>
          <a:blip r:embed="rId1"/>
          <a:stretch/>
        </p:blipFill>
        <p:spPr>
          <a:xfrm>
            <a:off x="5867280" y="5029200"/>
            <a:ext cx="3276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523520"/>
            <a:ext cx="8763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The elements of 'marketing mix' which custo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can actually see or experience when they use 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Contribute to the perceived quality of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www.fotosearch.com/bthumb/CSP/CSP443/k4431243.jpg"/>
          <p:cNvPicPr/>
          <p:nvPr/>
        </p:nvPicPr>
        <p:blipFill>
          <a:blip r:embed="rId1"/>
          <a:stretch/>
        </p:blipFill>
        <p:spPr>
          <a:xfrm>
            <a:off x="5486400" y="4103640"/>
            <a:ext cx="3657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0070"/>
                </a:solidFill>
                <a:latin typeface="Arial"/>
              </a:rPr>
              <a:t>Marketing Mix –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520" y="1523520"/>
            <a:ext cx="84582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 "/>
              </a:rPr>
              <a:t>Include the following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urniture and furnishing of the rooms and all publ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Façade and appearance of hotel building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Brochures, paperwork and statione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Lighting and amb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Sign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Temperature and noi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ppearance of staf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Web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 "/>
              </a:rPr>
              <a:t>Appearance of advertis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5400">
              <a:lnSpc>
                <a:spcPct val="100000"/>
              </a:lnSpc>
              <a:spcBef>
                <a:spcPts val="649"/>
              </a:spcBef>
              <a:buClr>
                <a:srgbClr val="440044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www.fotosearch.com/bthumb/CSP/CSP328/k3288266.jpg"/>
          <p:cNvPicPr/>
          <p:nvPr/>
        </p:nvPicPr>
        <p:blipFill>
          <a:blip r:embed="rId1"/>
          <a:stretch/>
        </p:blipFill>
        <p:spPr>
          <a:xfrm>
            <a:off x="6602400" y="4495680"/>
            <a:ext cx="2541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8:17:07Z</dcterms:created>
  <dc:creator>Craig Brogan</dc:creator>
  <dc:description/>
  <dc:language>en-US</dc:language>
  <cp:lastModifiedBy>robert</cp:lastModifiedBy>
  <dcterms:modified xsi:type="dcterms:W3CDTF">2011-04-13T08:40:40Z</dcterms:modified>
  <cp:revision>101</cp:revision>
  <dc:subject/>
  <dc:title>Presentation Module 2</dc:title>
</cp:coreProperties>
</file>